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F54-1AE9-435F-A99E-46C6A5A1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119-E0AA-4051-AD4E-AAF3EC62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12B-7BE1-4D44-A245-5D1DE93E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D54-A136-4DE9-A483-91669CC1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C706-691D-4D9F-88F9-977DA331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4391-16BA-4AD4-8A47-114CAE3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7D9C-F3F2-43AF-A016-ED130EF8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2DED-E3D4-469B-95DC-44C373A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2196-94BE-4EEF-A48E-773572D6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D08C-E075-479D-B5A2-12E98C32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AAE6-F20E-4402-9F3F-84A96AFD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F14-77A1-4FC9-AE57-19258B65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73E6-0BE6-4307-AB01-BB30FC5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9EBA-CAA2-4AF9-B0DE-EC8DFFE5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5F91-CA5F-46AF-A7FB-5C9C88A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7B0D-0186-4B21-8698-BCE7BA70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7BF2-6A13-4B58-98A7-DBF77D93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B95-0C5A-4874-81DD-AA45964C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7D00-CE1B-43EB-A629-939E2ADC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824-7716-4FF9-8427-3469CE86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F50-584C-4DA7-AD2A-DBD4966C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DDE-1CE8-4445-B83B-998487AD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1F6-FF4C-4C3A-95C9-69A1043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2DD0-CD10-4764-B87C-35FE6F0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BCC6-424E-47C2-AA29-FFAD97E5B7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1F65-37BC-45EA-8715-B6C66A6C6E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, Positive Externality of Con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ew Hol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llustr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648240" cy="4486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248360" cy="3359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Education, Market Fail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76360" y="1557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805360"/>
            <a:ext cx="619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7080" y="5950080"/>
            <a:ext cx="17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5573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1989000"/>
            <a:ext cx="5904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1989000"/>
            <a:ext cx="439092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476360" y="1916280"/>
            <a:ext cx="496728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6720" y="177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C=S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4076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53737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476360" y="3068640"/>
            <a:ext cx="2951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27640" y="3068640"/>
            <a:ext cx="0" cy="27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3573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476360" y="357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11640" y="5877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3640" y="58770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2924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4290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989000"/>
            <a:ext cx="2951280" cy="1584360"/>
          </a:xfrm>
          <a:custGeom>
            <a:avLst/>
            <a:gdLst/>
            <a:ahLst/>
            <a:rect l="l" t="t" r="r" b="b"/>
            <a:pathLst>
              <a:path w="1859" h="998">
                <a:moveTo>
                  <a:pt x="0" y="0"/>
                </a:moveTo>
                <a:lnTo>
                  <a:pt x="1859" y="680"/>
                </a:lnTo>
                <a:lnTo>
                  <a:pt x="1270" y="998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32000" y="2997360"/>
            <a:ext cx="1871640" cy="15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4365720"/>
            <a:ext cx="144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spill over of a well educated work force which benefits third pa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844640"/>
            <a:ext cx="7416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ducation consumers only consider their own private costs and benefits the consumption, then there will be an under consumption of education (QF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ositive benefits of education on others is considered, the socially desirable level  of consumption would be free market consumers under education (Q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86240" y="2724120"/>
            <a:ext cx="942840" cy="849240"/>
          </a:xfrm>
          <a:custGeom>
            <a:avLst/>
            <a:gdLst/>
            <a:ahLst/>
            <a:rect l="l" t="t" r="r" b="b"/>
            <a:pathLst>
              <a:path w="594" h="535">
                <a:moveTo>
                  <a:pt x="4" y="535"/>
                </a:moveTo>
                <a:lnTo>
                  <a:pt x="0" y="0"/>
                </a:lnTo>
                <a:lnTo>
                  <a:pt x="594" y="216"/>
                </a:lnTo>
                <a:lnTo>
                  <a:pt x="4" y="5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851280" y="3213000"/>
            <a:ext cx="273672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47973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weight loss that results from operating at the free market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630864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xit" presetID="2" presetSubtype="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2:33:46Z</dcterms:created>
  <dc:creator>Stuart Holland</dc:creator>
  <dc:description/>
  <dc:language>en-US</dc:language>
  <cp:lastModifiedBy>Stuart Holland</cp:lastModifiedBy>
  <dcterms:modified xsi:type="dcterms:W3CDTF">2008-07-26T02:20:59Z</dcterms:modified>
  <cp:revision>5</cp:revision>
  <dc:subject/>
  <dc:title>Education, Positive Externality of Consumption</dc:title>
</cp:coreProperties>
</file>